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A6D-8312-4977-8D5C-3AEAFFC2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CC2-8816-47AF-80B9-EF244943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39B-BE46-400E-9AD7-0DB86C1B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37A8-1B97-4B13-9F4E-7E4DC987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746-D9FC-47B5-92F9-FA5A3DE5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69A-A3F7-421F-ACC9-87227512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227D-6040-47B4-AF0C-661020A0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D80-ADAB-47A3-858E-98415E51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AD2F-8509-46D4-881A-F0118969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66D-B07C-4406-9999-E3F8ECFD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A2F-E97C-4363-975E-62632031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0F4-3FB4-4BA9-8339-71467B93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1441-56C4-41F9-9FA5-D7B386A1F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roquois Lea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6172200" cy="4227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105520"/>
            <a:ext cx="23335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itional Iroquois 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782040" cy="4290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685800"/>
            <a:ext cx="754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aditional Iroquois Longhou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2:42:05Z</dcterms:created>
  <dc:creator>tpagel</dc:creator>
  <dc:description/>
  <dc:language>en-US</dc:language>
  <cp:lastModifiedBy>tpagel</cp:lastModifiedBy>
  <dcterms:modified xsi:type="dcterms:W3CDTF">2010-09-08T23:00:26Z</dcterms:modified>
  <cp:revision>2</cp:revision>
  <dc:subject/>
  <dc:title>The Iroquois League</dc:title>
</cp:coreProperties>
</file>